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jpeg" ContentType="image/jpeg"/>
  <Override PartName="/ppt/media/image22.jpeg" ContentType="image/jpeg"/>
  <Override PartName="/ppt/media/image26.jpeg" ContentType="image/jpeg"/>
  <Override PartName="/ppt/media/image5.jpeg" ContentType="image/jpeg"/>
  <Override PartName="/ppt/media/image15.gif" ContentType="image/gif"/>
  <Override PartName="/ppt/media/image8.jpeg" ContentType="image/jpeg"/>
  <Override PartName="/ppt/media/image4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30.wmf" ContentType="image/x-wmf"/>
  <Override PartName="/ppt/media/image13.gif" ContentType="image/gif"/>
  <Override PartName="/ppt/media/image29.jpeg" ContentType="image/jpeg"/>
  <Override PartName="/ppt/media/image33.wmf" ContentType="image/x-wmf"/>
  <Override PartName="/ppt/media/image3.wmf" ContentType="image/x-wmf"/>
  <Override PartName="/ppt/media/image2.jpeg" ContentType="image/jpeg"/>
  <Override PartName="/ppt/media/image23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1.wmf" ContentType="image/x-wmf"/>
  <Override PartName="/ppt/media/image14.gif" ContentType="image/gif"/>
  <Override PartName="/ppt/media/image12.wmf" ContentType="image/x-wmf"/>
  <Override PartName="/ppt/media/image16.gif" ContentType="image/gif"/>
  <Override PartName="/ppt/media/image27.jpeg" ContentType="image/jpeg"/>
  <Override PartName="/ppt/media/image17.gif" ContentType="image/gif"/>
  <Override PartName="/ppt/media/image21.jpeg" ContentType="image/jpeg"/>
  <Override PartName="/ppt/media/image32.wmf" ContentType="image/x-wmf"/>
  <Override PartName="/ppt/media/image20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645-1B31-479B-998E-CB2D50F0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657-CF81-4B25-B8C5-BECB7016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A76-32DD-4ADF-A9EB-E11BFA79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5F3B-4AA4-495F-B019-937F10E5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660F-8BC7-4414-9CA1-6BF60498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34A4-A91C-48AE-BEE0-D717FD26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1C3F-613D-4903-B9E1-86860A99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CAF1-B0BA-45CE-A339-0C1FB263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BD35-DD24-4EFA-BEB4-181A1EC5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311B-8823-4B6C-A559-A586E541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C3AB-701A-4A7E-8798-41268CF7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22FC-3C2C-4758-8A9F-60AA22E5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BFD8-B6C9-48F6-8AA4-C9BF0270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0D7E-6B64-40A0-8019-D616FA1D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4382-1E9C-4DCB-A030-586B64F4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89E9-9385-404F-840B-6423B92A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6A8F-AD72-411B-A168-7EBE9D8C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4CB-31FC-4D42-ADE1-C3FBDA94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81C3-1520-4123-956D-95994CA2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FAF-5DBC-49E6-9CBA-3CC84156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2CC-9AE2-4871-8FCE-551676E7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9C6-ACF5-4E3D-8EC4-B5453C78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C49-443A-4F33-9692-261CA289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CED-FC3A-4883-8FD4-081D5545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D72E-A1FA-49BF-9956-ADB8301561C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83CD-8698-451D-A3D6-CD7B87F6D18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632720" cy="2663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liedros y Cuerpos redondo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alabra poliedro (Π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oλυεδρ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riva de los términos grieg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oλυ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ucho) y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εδρα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lano).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8360" y="2814480"/>
            <a:ext cx="359892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76960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todos los poliedros convexos se verifica siempre que el número de caras más el número de vértices es igual al número de aristas más do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1979640" y="414972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 + V = A +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24000" y="52293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703dff"/>
                </a:solidFill>
                <a:latin typeface="Comic Sans MS"/>
              </a:rPr>
              <a:t>Carlos V es Austría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769608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y otros elementos en los poliedros que debes conocer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896000" cy="3084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364000" y="1628640"/>
            <a:ext cx="33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¿Cómo definirías la diagonal de un poliedr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e dos vértices que no están en la misma ca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48000" y="400536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¿Y el plano diago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ene dos diag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4869000"/>
            <a:ext cx="65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uál es el número de diagonales y de planos diagonales del poliedro anteri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27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Explica razonadamente cuáles de las siguientes afirmaciones son verdaderas y cuáles son fals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200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1. El número de aristas de un poliedro que concurren en un vértice es, como mínimo, 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198900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2. Las caras de un poliedro son todas ig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1440" y="242100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3. Hay poliedros con tres ca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292428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4. En cada vértice de un poliedro concurren siempre el mismo número de ari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371628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5. Las caras de un poliedro han de ser forzosamente polígo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2720" y="4581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6. Todos los poliedros de cinco caras tienen 8 aristas y 5 vért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8000" y="5373720"/>
            <a:ext cx="66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Comic Sans MS"/>
              </a:rPr>
              <a:t>7. El número mínimo de caras que concurren en un vértice es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11280" y="6165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8. El cilindro es un polied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68709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POLIEDROS REGULA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4865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les conoce con el nombre de sólidos platónicos en honor a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Platón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iglo IV a. de C.), pero lo cierto es que no se sabe en qué época llegaron a conocer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cimos que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un poliedro es regular si todas sus caras son polígonos regulares igual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quieres comprobarlo, fíjate en el número de caras, de vértices y de aristas de cada uno de los siguientes poliedros regulare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ólo hay cinco poliedros regulares, que son: el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tetraedro, el hexaedro o cubo, el octaedro, el dodecaedro y el icosaedr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81360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ETRAEDRO REGUL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1280" y="1973160"/>
            <a:ext cx="777384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do por tres triángulos equiláteros. Es el que tiene menor volumen de los cinco en comparación con su superficie. Representa el fuego. Está formado por 4 caras, 6 aristas y 4 vérti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5724360" y="4653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U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340000" y="328464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800"/>
                </a:solidFill>
                <a:latin typeface="Comic Sans MS"/>
              </a:rPr>
              <a:t>OCTAEDRO REGUL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384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do por ocho triángulos equiláteros. Gira libremente cuando se sujeta por vértices opuestos. Por ello, representa al aire en movimiento. Está formado por 8 caras, 12 aristas y 6 vérti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797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124000" y="328464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ICOSAEDRO REGUL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7738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do por veinte triángulos equiláteros. Es el tiene mayor volumen en relación con su superficie y representa al agua. Tiene 20 caras, 30 aristas y 12 vérti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941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Comic Sans MS"/>
              </a:rPr>
              <a:t>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25196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6912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HEXAEDRO REGULAR O CUB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7775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do por seis cuadrados. Permanece estable sobre su base. Por eso representa la tierra. Está formado por 6 caras, 12 aristas y 8 vérti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6084720" y="486900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556000" y="3573360"/>
            <a:ext cx="2663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DODECAEDRO REGULA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2044440"/>
            <a:ext cx="77742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do por doce pentágonos regulares. Corresponde al Universo, pues sus doce caras pueden albergar los doce signos del Zodiaco. Tiene 12 caras, 30 aristas y 20 vérti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5364000" y="4581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mic Sans MS"/>
              </a:rPr>
              <a:t>EL UNIVE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 desarrollo de cada sólido platón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36360" y="2203560"/>
            <a:ext cx="8640720" cy="46101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9640" y="1557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bújalos en una cartulina, recórtalos y constrúye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CUERPOS SÓLID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 cuerpo sólido es todo lo que ocupa lugar en el espaci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s cuerpos geométricos pueden ser de dos clases: o formados por caras planas (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liedr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o teniendo alguna o todas sus caras curvas (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uerpos redond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80643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iedros en la vida cotidian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2256120" cy="1842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564000" y="1341360"/>
            <a:ext cx="1749240" cy="2619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1619280" y="3068640"/>
            <a:ext cx="3816360" cy="2854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932360" y="1628640"/>
            <a:ext cx="3726000" cy="27957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4859280" y="3141720"/>
            <a:ext cx="25052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rcRect l="40210" t="0" r="0" b="0"/>
          <a:stretch/>
        </p:blipFill>
        <p:spPr>
          <a:xfrm>
            <a:off x="4500720" y="3500280"/>
            <a:ext cx="4176720" cy="31402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ISMA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7702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 prismas tienen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dos caras (bases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que son iguales y paralelas entre sí. Las caras laterales son paralelogramo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 elementos de un prisma son los siguientes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s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bas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son la cara en la que se apoya el prisma y su opuesta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s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caras lateral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son las caras que comparten dos de sus lados con las bases. La suma de sus áreas es la superficie lateral del prisma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s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arista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son los lados de las bases y de las caras laterale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 </a:t>
            </a:r>
            <a:r>
              <a:rPr b="0" lang="en-US" sz="1600" spc="-1" strike="noStrike">
                <a:solidFill>
                  <a:srgbClr val="cc0000"/>
                </a:solidFill>
                <a:latin typeface="Comic Sans MS"/>
              </a:rPr>
              <a:t>vértic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son los puntos en donde se encuentran cada par de arista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 prismas se nombran según sea el polígono de sus bases: prisma triangular, cuadrangular, pentagonal, hexagonal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763640" y="4065480"/>
            <a:ext cx="28796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209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 prisma se llam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c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ndo sus aristas laterales son perpendiculares a las bases y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oblicu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n caso contrari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191628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altura de un prisma será el segmento de perpendicular a las bases comprendido entre 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3429000"/>
            <a:ext cx="81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la base del prisma es un triángulo, el prisma se llamará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iangul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 si es un cuadrado, se llamará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uadrangul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0" y="4589640"/>
            <a:ext cx="410544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49672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y unos prismas especialmente interesantes dentro de los prismas cuadrangulares. Estos son lo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alelepípedo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lamados así porque los cuadriláteros de las bases son paralelogramo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350028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el paralelepípedo es recto y los paralelogramos de las bases son rectángulos, éste recibe el nombre de o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ed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435640" y="3500280"/>
            <a:ext cx="3257640" cy="22640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796000" y="476280"/>
            <a:ext cx="20937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95280" y="188640"/>
            <a:ext cx="338292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IRÁMI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0658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ando cortamos un ángulo poliedro por un plano, se obtiene un cuerpo geométrico llamado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irámid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s pirámides son poliedros que tienen una sola base, que es un polígono cualquiera, y sus otras caras son triángulos que se unen en un vértice común que se llama cúspide o vértice de la pirámid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311280" cy="23763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826920" y="2565360"/>
            <a:ext cx="41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2174760"/>
            <a:ext cx="4608360" cy="435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elementos de una pirámide son los sigui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ba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es la cara en la que se apoya la pirám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s 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caras lateral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son las caras que comparten uno de sus lados con la base. La suma de sus áreas es la superficie lateral de la pirám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s 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arista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son los lados de las bases y de las caras lat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vértic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son los puntos en donde se encuentran cada par de ari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s </a:t>
            </a: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apotema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son las alturas de las caras laterales de la pirám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76720" y="5013360"/>
            <a:ext cx="3600720" cy="1618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 nombran según sea el polígono de su base: pirámide triangular, cuadrangular, pentagonal, hexagonal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0578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s pirámides se puede clasificar de forma análoga a los prismas. Así, ha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irámides recta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licu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según que el centro del polígono de la base coincida o no con el pie de la altura de la pirámide, 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ulare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rregular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según que el polígono de la base sea o no regula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400536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í mismo, según el número de lados del polígono de la base, la pirámide será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iangul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uadrangu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,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ntagon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ONCO DE PIRÁM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 cortamos una pirámide por un plano, obtenemos un tronco de pirámide, que será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ct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blicu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egún que el plano sea o no paralelo a la base. Fíjate en que las caras laterales de un tronco de pirámide son trapecios y cuando éste es regular, entonces los trapecios son isósceles iguales y su altura coincide con la apotema del tronco de pirámide. Por otra parte, las bases son polígonos semejant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451640" y="4437000"/>
            <a:ext cx="151308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uerpos redondo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7696440" cy="3048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68360" y="98100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a lata de refresco, la punta de un lapicero y un balón son cuerpos geométricos que tienen parte de su superficie, o toda ella,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ur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La lata es un cilindro, la punta del lápiz es un cono y el balón una esf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stos tres cuerpos: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ilindro, cono y esfer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e les llama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uerpos redond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68360" y="333360"/>
            <a:ext cx="44625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ilind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940360" y="2421000"/>
            <a:ext cx="2308320" cy="3657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39640" y="1125360"/>
            <a:ext cx="525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columnas de un templo clásico, un rodillo de amasar o el rulo de una apisonadora son también ejemplos de cilind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cilindro se forma al girar un rectángulo alrededor de uno de sus lados, que se mantiene fijo, como en una puerta gi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rtamos el cono por su superficie lateral y lo extendemos sobre una superficie plana,  obtenemos su desarrol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68360" y="333360"/>
            <a:ext cx="44625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1484280"/>
            <a:ext cx="525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cucurucho de un helado y el tejado de una choza son ejemplos de co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cono se forma al girar un triángulo rectángulo alrededor de uno de sus cat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rtamos el cono por su superficie lateral y lo extendemos sobre una superficie plana, obtenemos su desarrol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508720" y="1197000"/>
            <a:ext cx="2989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Activida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79640" y="3789360"/>
            <a:ext cx="648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¿Qué características comunes ves a todos ello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81240" y="1138320"/>
            <a:ext cx="6099120" cy="2506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050920" y="458136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Dibuja otros tres cuerpos con las mismas caracter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5486400"/>
            <a:ext cx="65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Señala 3 objetos reales que sean  polied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356000" y="1743120"/>
            <a:ext cx="4464000" cy="30542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292360" y="333360"/>
            <a:ext cx="28782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fe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404640"/>
            <a:ext cx="5256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a pelota de playa, una naranja o una canica son ejemplos de esferas. La esfera se forma por el giro de un semicírculo alrededor de su diámetro. Los principales elementos de una esfera son su centro y su ra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LA ESFERA TERR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 la Tierra tiene forma casi esférica (está un poco achatada por los polos), la llamamos la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esfera terrest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la podemos trazar unas líneas imaginarias, que nos permitirán precisar la posición de cualquier punto sobre ella, por ejemplo, la situación de tu pueblo o ciu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as líneas son: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el eje terrestre, el ecuador, los paralelos y los meridi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POLIED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763092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 llaman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poliedros a los cuerpos geométricos cuyas caras son polígono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s poliedros se clasifican en prismas y en pirámid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050920" y="4365720"/>
            <a:ext cx="1440000" cy="1919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16360" y="4076640"/>
            <a:ext cx="12556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Ángulos diedr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38880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s planos que se cortan, dividen el espacio en cuatro regio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da una de ellas se llama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ángul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edr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 simplemente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ed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cara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 diedro son los semiplanos que lo determinan y la recta común a las dos caras se llama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aris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1054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6560" y="907560"/>
            <a:ext cx="8282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son tres planos los que se cortan, se le llama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riedr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si cuatro,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etraedr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si cinco,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pentaedr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etc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 punto común se le llama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vértic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9295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ctividad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66945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serva los siguientes poliedro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099120" cy="1817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4360" y="2997360"/>
            <a:ext cx="65530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los sitúas en un plano, observa que hay dos que no se pueden apoyar sobre todas sus caras. ¿Cuáles 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4508640"/>
            <a:ext cx="7696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s poliedros que tienen alguna cara sobre la que no se pueden apoyar, se les llam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óncavo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a los demá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onvex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19280" y="404640"/>
            <a:ext cx="518328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Actividad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20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la figura siguiente tienes pintado un poliedro. En él se te indican algunos elementos característic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0920" y="2557440"/>
            <a:ext cx="3485880" cy="2023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90920" y="22050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¿Cómo definirías cada uno de estos elemen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595008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 número de caras que concurren en un mismo vértice se le llama orden del vér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3254400"/>
            <a:ext cx="45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¿Cuántas caras, vértices y aristas tiene este polied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35280" y="436572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¿Cuántas caras se habrán de juntar en un vértice como míni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FÓRMULA DE EULER (1750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3240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los poliedros de la figura, cuenta el número de caras, vértices y aristas y escríbelos en la tabl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564000" y="836640"/>
            <a:ext cx="4464000" cy="3343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195640" y="4076640"/>
            <a:ext cx="5761080" cy="2308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627280" y="63025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¿Encuentras alguna relación entre C, V y 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6:51:19Z</dcterms:created>
  <dc:creator>Danny Perich</dc:creator>
  <dc:description/>
  <dc:language>en-US</dc:language>
  <cp:lastModifiedBy>Ricardo</cp:lastModifiedBy>
  <dcterms:modified xsi:type="dcterms:W3CDTF">2011-05-11T16:24:34Z</dcterms:modified>
  <cp:revision>116</cp:revision>
  <dc:subject/>
  <dc:title>POLIEDR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